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38A-183E-4450-8D02-6BF40595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59A-E262-4AC1-B6DD-07EFB381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690-E771-4492-8DC0-CC37EF79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EEA-2C7C-47DF-8E2E-39709487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9E66-6869-44AF-8AC3-75770A14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5B84-AFBB-47EE-8DFF-CC170B55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7298-F55B-44BA-8545-B653401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23A-70F9-427F-81C9-85D0E3E4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A5F6-A601-4A24-BF8F-B562CF70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C30-9A13-4802-8DDF-542EF7C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B3DF-7B65-45E5-9734-1C6277B1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A42-A8F7-4948-A874-31FBB01F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7536-61CB-4E7E-BF96-29B70397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C9BF-9B25-4F99-A779-8B4DA5A8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F15C-1685-4265-882B-9D00381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F740-E0C8-4125-8193-97EDA10D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8A6A-3CE1-4D26-A2F6-DBB622BE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8C08A-D777-4300-8639-125E1CCE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87AC7-E0C5-4BD4-BF4B-289A7343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DAA01-974E-44ED-9231-FAFFC7FF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0D2C0-6DD1-44A6-8BC5-AD307C00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03E87-8171-4932-AE59-41BD096C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2A1-4B84-4A04-BB1B-9187266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1F6FA-C5CF-4497-AA38-AC28BC4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25E02-002F-44C9-A57E-DF56E57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98BC5-D1D9-4F8E-99C6-AED11E1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08410-F0F9-4669-A727-17E81561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D7B48-324A-4A40-9EF1-0E7D6AE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2515A-5130-4692-97D9-39E1A932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D0E03-80A9-4420-A2FB-AE4C79EC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1102-1C21-4A3C-93C8-BE65A7F9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7741-C668-44C7-8564-3B440A79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250F-B43B-42B5-AB7A-8EDC7A5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67C-5996-49B6-8CCB-879C2F22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3FDFD-5751-4BA9-B5B0-2F73A7B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B6B0-4848-4152-8971-CB82FB8D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000C-9057-4FC5-B120-F68BF647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4DCB-59E5-48D9-9116-BCBB6558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E8FB-3711-4F9A-9D1E-E88C331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B6658-CBB3-4442-8428-F6FE87C6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E5FA-3BFB-4248-89E6-2BAD0EA3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05BD-887A-49D3-9E32-E39CBFCE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7660-3BFA-410C-ABD7-767D65E7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6932E-8DAD-46B6-8419-E12DFDC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291-3AFF-473C-87FD-4A675A16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6E204-1641-4B38-B462-36978A6E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58AD1-FBF3-4EA6-ACD1-EDB41782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2447B-7D7A-4F46-A074-8F36E124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1A006-C551-4897-AB24-A441CD0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D31A9-FEB8-4B0A-9819-D9C24CE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AC737-63AC-4253-BB8A-9D2DC2B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DA7A4-C797-4414-AFDC-8430B81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E7D61-6921-45A3-BE72-82A85FC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C8AE0-06A1-4774-9523-C76D53CD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CFDA2-5FFE-4E8F-8024-F0FF54B8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E13-AE83-4F9F-8F57-D61B55B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53EE5-0429-4AF1-887E-C4054BD1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707C6-29F4-430E-8BBF-36FC006F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C13CF-1BB4-45FF-83AF-310FE5D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2BB23-792B-4306-AA16-E055E18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88ACE-8BC0-4E47-84C6-22F4863C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5F386-A1BB-4BF3-ADA1-69F45FCA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83961-16B1-4BB9-8413-38DC5BF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F0B69-69FB-491E-AF4B-BE1A950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E7050-D7EE-4A2B-B90C-E37A24A2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B90ED-13DD-414A-9E2D-EA3BE35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4C9-E17E-4722-BCF4-6262422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EB933-C113-4EEC-989D-CDACD04D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8D5E9-D5E7-4366-A3F8-CDEFB5BB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123CB-636A-4A06-BB2F-07822031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6718C-0CE5-4C2C-B20A-F2B5E95B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BCEA2-09D0-42E3-89B2-DBC4287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D2657-AA06-43C8-8317-0C359700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9D00E9-82B6-4252-B33D-8A1322A9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4EBA3-9E1D-4CFD-B258-80368F6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5772A-32A2-4E25-A232-44A81F8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43168-6E21-4398-86F1-AF705D2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EDA-B0B4-4121-98B9-E5817B75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C03B8-EAEA-4230-805E-F2CD698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00DD4-C61F-4782-80E4-3BB84A6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25E11-1CCC-450C-B218-D88501F4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5344C-3730-4A03-8BCA-FF0BAEC2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EE281-1635-427F-A5DD-9E2F269F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CAD-BD33-4F6B-9FB0-D5A23493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221-1EA9-475E-9245-4362064ABF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3464-9B47-4DF6-BD13-4574D36A53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F91D-09DE-4EF5-8F7E-871C82E752B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192F-1296-41E1-9986-B69A89D8CD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9424-99B0-4533-91B9-2A0621FFA9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1D66-495B-4915-97A4-B7980DD5DC4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D5B3-4BCC-4F18-9600-28D24488261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NDUSTRIAL REVOLUTION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 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5</a:t>
            </a:r>
            <a:r>
              <a:rPr b="1" lang="en-US" sz="1800" spc="-1" strike="noStrike" baseline="30000">
                <a:solidFill>
                  <a:srgbClr val="575f6d"/>
                </a:solidFill>
                <a:latin typeface="Century Schoolbook"/>
              </a:rPr>
              <a:t>th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ctober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RIGHTS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IGH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ights are legal, social, or ethical principles of freedom or entitlement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asuring sti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inked to human dign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INDS OF RIGH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damental Freed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OUR  &amp; SOCIAL RIGH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labour &amp; social rights should we ha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did not exist before the Industrial Revol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CIAL CHANGE LEADS TO POLITICAL CHAN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ians react to changes that have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already occurr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society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TCOME 2.1.1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tudents will know, understand and be able to explain the new ideas and innovations which led to the Industrial Revolu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CEP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utled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Working Cla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Class Conflic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Urbaniz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Labour Mov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Proper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Righ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PERTY (PRA-PUR-TEE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s any physical or intangible entity that is owned by a person or jointly by a group of people or a legal entity like a corporation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RADITIONAL PRINCIPLES OF PROPERTY RIGHTS INCLUD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ntrol of the use of the proper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right to any benefit from the property (examples: mining rights and ren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right to transfer or sell the proper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 right to exclude others from the propert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TRADITIONAL PROPERTY RIGHTS </a:t>
            </a: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DO NOT </a:t>
            </a: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INCLUDE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s that unreasonably interfere with the property rights of another private party (the right of quiet enjoyment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s that unreasonably interfere with public property rights, including uses that interfere with public health, safety, peace or convenienc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INDS OF PROPER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ngible Proper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rovements (man-made, immovable thing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ersonal property (moveable, man-made thing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angible Proper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nancial Instruments (stocks, bond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llectual Property (patents, copyrights, trademark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HN LOCKE &amp; “NATURAL RIGH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Nature + Labour = Property*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as long as there is "enough, and as good, left in common for others."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PERTY:  OUT OF REACH FOR MOS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udalism &amp; Middle A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ded Clas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Property to make mone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 is likely to have mone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chance does someone who is poor have to become rich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0:12:39Z</dcterms:created>
  <dc:creator>ED18</dc:creator>
  <dc:description/>
  <dc:language>en-US</dc:language>
  <cp:lastModifiedBy>Greg Peters</cp:lastModifiedBy>
  <dcterms:modified xsi:type="dcterms:W3CDTF">2012-10-03T12:50:48Z</dcterms:modified>
  <cp:revision>9</cp:revision>
  <dc:subject/>
  <dc:title>Industrial Revolution An Introduction</dc:title>
</cp:coreProperties>
</file>